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92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2BE6-F1CD-4A5D-82A7-59C9FC750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545A-B16C-434D-962D-69FD2EDFE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окно в соц сфере – прообраз  и модель отработки технологии МФ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9467-970E-4E0F-A297-EB4CF830A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окно в соц сфере – прообраз  и модель отработки технологии МФ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43920"/>
            <a:ext cx="6275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4d7c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92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587664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kaliningrad"/>
          <p:cNvPicPr/>
          <p:nvPr/>
        </p:nvPicPr>
        <p:blipFill>
          <a:blip r:embed="rId2"/>
          <a:srcRect l="0" t="0" r="0" b="2486"/>
          <a:stretch/>
        </p:blipFill>
        <p:spPr>
          <a:xfrm>
            <a:off x="468360" y="6480"/>
            <a:ext cx="1052640" cy="1145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"/>
          <p:cNvPicPr/>
          <p:nvPr/>
        </p:nvPicPr>
        <p:blipFill>
          <a:blip r:embed="rId4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uinfo=sw-1386-sh-734-fw-1161-fh-528-pd-1&amp;p=2&amp;text=&#1087;&#1088;&#1077;&#1079;&#1077;&#1085;&#1090;&#1072;&#1094;&#1080;&#1103;%20&#1082;&#1086;&#1088;&#1088;&#1091;&#1087;&#1094;&#1080;&#1103;&amp;pos=78&amp;lr=18&amp;rpt=simage&amp;img_url=http%3A%2F%2Fwww.corrupcia.net%2Fresampled%2Ffiles%2Fnews%2F8_131_sq215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2488"/>
                </a:solidFill>
                <a:latin typeface="Tahoma"/>
              </a:rPr>
              <a:t>Противодействие коррупции и формирование антикоррупционного поведения</a:t>
            </a:r>
            <a:endParaRPr b="1" lang="en-US" sz="44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92"/>
                </a:solidFill>
                <a:latin typeface="Arial"/>
              </a:rPr>
              <a:t>Основные виды преступлений коррупционной  направленности:</a:t>
            </a:r>
            <a:endParaRPr b="1" lang="en-US" sz="24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коммерческий подкуп (ст.204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злоупотребление должностными полномочиями (ст.285 УК 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ревышение должностных полномочий(ст. 286 УК РФ);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незаконное участие в предпринимательской деятельности (ст.289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олучение взятки (ст.290 УК РФ) 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дача взятки (ст.291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осредничество во взяточничестве (ст.291.1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служебный подлог (ст.292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1187280" y="1413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зяточничество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является наиболее распространенным и опасным преступлением. Оно посягает на основы государственной власти, нарушает нормальную управленческую деятельность государственных и муниципальных органов и учреждений, подрывает их авторитет, деформирует правосознание граждан, создавая у них представление о возможности удовлетворения личных и коллективных интересов путем подкупа должностных лиц, препятствует конкуренции, затрудняет эконом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125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головный кодекс Российской Федерации предусматривает три вида преступлений, связанных со взяткой: получение взятки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атья 290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, дача взятки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атья 291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 и посредничество во взяточничестве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.291.1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лучение взятки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одно из самых опасных должностных преступлений, особенно если оно совершается группой лиц или сопровождается вымогательством, которое заключается в получении должностным лицом преимуществ и выгод за законные или незаконные действия (бездействие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Дача взятки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преступление, направленное на склонение должностного лица к совершению законных или незаконных действий (бездействия) либо предоставлению получению каких-либо преимуществ в пользу дающего, в том числе за общее покровительство или попустительство по службе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средничество во взяточничестве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непосредственная передача взятки по поручению взяткодателя или взяткополучателя, а также любое другое способствование взяткодателю и (или) взяткополучателю в достижении либо реализации соглашения между ними о получении и даче взятк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Что такое коммерческий подкуп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1224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"Взятка" лицу, выполняющему управленческие функции в коммерческих и некоммерческих предприятиях и организациях - директору, заместителю директора коммерческой фирмы или государственного унитарного предприятия, председателю и члену совета директоров акционерного общества, главе кооператива, руководителю общественного или религиозного объединения, фонда, некоммерческого партнерства, лидеру и руководящему функционеру политической партии и т. д. - в Уголовном кодексе Российской Федерации именуется коммерческим подкупом (статья 204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1224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627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РЕДМЕТОМ ВЗЯТКИ ИЛИ КОММЕРЧЕСКОГО ПОДКУПА МОГУТ БЫТЬ: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едметы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- деньги, в том числе валюта, банковские чеки и ценные бумаги, изделия из драгоценных металлов и камней, автомашины, продукты питания, видеотехника, бытовые приборы и другие товары, квартиры, дачи, загородные дома, гаражи, земельные участки и другая недвижимость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Услуги и выгоды имущественного характера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лечение, ремонтные и строительные работы, санаторные и туристические путевки, поездки за границу, оплата развлечений и других расходов безвозмездно или по заниженной стоимости; освобождение от имущественных обязательств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Завуалированная форма взятки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- банковская ссуда в долг или под видом погашения несуществующего долга, оплата товаров, купленных по заниженной цене, покупка товаров по завышенной цене, заключение фиктивных трудовых договоров с выплатой зарплаты взяточнику, его родственникам или друзьям, получение льготного кредита, завышение гонораров за лекции, статьи и книги, преднамеренный проигрыш в карты, "случайный" выигрыш в казино, прощение долга, уменьшение арендной платы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зяткой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также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является предоставление имущественных выгод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виде денег, иных ценностей, оказание материальных услуг 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родным и близким должностного лица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его согласия либо если должностное лицо не возражало против этого и использовало свои служебные полномочия в пользу взяткодател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указанном случае действия должностного лица будут квалифицированы как получение взятк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777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Уголовная ответственность за покушение на дачу либо получение взятки, на коммерческий подкуп или посредничество во взяточничестве</a:t>
            </a:r>
            <a:endParaRPr b="1" lang="en-US" sz="16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000" y="1196640"/>
            <a:ext cx="81471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случае, когда: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82" name="Схема 5" descr=""/>
          <p:cNvPicPr/>
          <p:nvPr/>
        </p:nvPicPr>
        <p:blipFill>
          <a:blip r:embed="rId1"/>
          <a:stretch/>
        </p:blipFill>
        <p:spPr>
          <a:xfrm>
            <a:off x="884160" y="1517760"/>
            <a:ext cx="7736040" cy="3303360"/>
          </a:xfrm>
          <a:prstGeom prst="rect">
            <a:avLst/>
          </a:prstGeom>
          <a:ln w="0">
            <a:noFill/>
          </a:ln>
        </p:spPr>
      </p:pic>
      <p:sp>
        <p:nvSpPr>
          <p:cNvPr id="83" name="Загнутый угол 6"/>
          <p:cNvSpPr/>
          <p:nvPr/>
        </p:nvSpPr>
        <p:spPr>
          <a:xfrm flipV="1" rot="10800000">
            <a:off x="1186920" y="4723920"/>
            <a:ext cx="7488360" cy="1411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ействия лица, непосредственно направленные получение или  передачи предмета взятки (коммерческого подку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удут квалифицированы как покушение на совершение престу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Вымогательство взятки - обстоятельство, отягчающее наказание за совершение преступления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од вымогательством взятки или предмета коммерческого подкупа следует понимать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е только требование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должностного лица или лица, выполняющего управленческие функции в коммерческой организации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дать взятку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либо передать незаконное вознаграждение при коммерческом подкупе, сопряженное с угрозой совершить действия (бездействие), которые могут причинить вред законным интересам лица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о и заведомое создание условий, при которых лицо вынуждено передать указанные предметы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целью предотвращения вредных последствий для своих интересов (например, умышленное нарушение установленных законом сроков рассмотрения обращений граждан)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 имеет значения, была ли у должностного лица либо у лица, выполняющего управленческие функции в коммерческой организации, реальная возможность осуществить указанную угрозу, если у лица, передавшего взятку или предмет коммерческого подкупа, имелись основания опасаться осуществления этой угрозы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езаконное участие в предпринимательской деятельности-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чреждение должностным лицом организации, осуществляющей предпринимательскую деятельность, либо участие в управлении такой организацией лично или через доверенное лицо вопреки запрету, установленному законом, если эти деяния связаны с предоставлением такой организации льгот и преимуществ или с покровительством в иной форм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лужебный подлог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внесение должностным лицом, государственным служащим или служащим органа местного самоуправления, не являющимся должностным лицом, в официальные документы заведомо ложных сведений, а равно внесение в указанные документы исправлений, искажающих их действительное содержание, если эти деяния совершены из корыстной или иной личной заинтересованности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1187280" y="1413000"/>
            <a:ext cx="69138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Ответственность за получение, дачу взятки, посредничество во взяточничестве наступает независимо от времени получения должностным лицом взятки - до или после совершения им действий (бездействия) по службе в пользу взяткодателя или представляемых им лиц, а также независимо от того, были ли указанные действия (бездействие) заранее обусловлены взяткой или договоренностью с должностным лицом о передаче за их совершение взя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042920" y="1159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Уголовная ответ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Как социальное явление коррупция 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является серьезной проблемой для любого общества и характерна для всех государств мира, в том числе с развитой экономикой  и давними демократическими традициями.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Этим обусловлено исключительно важное значение международного сотрудничества в области предупреждения коррупции и борьбы с ней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еречень преступлений коррупционной направленности намного шире приведенного в настоящей презентации, к числу коррупционных относятся многие преступления против государственной власти, государственной и иной службы. Круг этих деяний устанавливается при изучении уголовных дел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826920" y="141300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Arial"/>
              </a:rPr>
              <a:t>Уголовное законодательство предусматривает множество возможных различных наказаний за совершенные преступные коррупционной направленности: обязательные работы, принудительные работы, ограничение свободы, штраф,  лишение права занимать определенные должности или заниматься определенной деятельностью, лишение свободы на определенны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Arial"/>
              </a:rPr>
              <a:t>Уголовным кодексом Российской Федерации установлен особый порядок исчисления штрафа за совершение преступлений коррупционной направленности. Штраф, исчисляется исходя из величины, кратной сумме коммерческого подкупа или взятки, и устанавливается в размере до 100-кратной суммы коммерческого подкупа или взятки, но не может быть менее 25 тысяч и более 500 миллионов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ры административной ответственности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196640"/>
            <a:ext cx="6696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мимо понятия «взятка» в действующем российском законодательстве используется такое понятие как «незаконное вознаграждение от имен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юридического лица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»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огласно статьей 19.28 Кодекса Российской Федерации об административных правонарушениях это: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езаконные передача, предложение или обещание 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от имени или в интересах юридического лица должностному лицу, лицу, выполняющему управленческие функции в коммерческой организаци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енег, ценных бумаг, иного имущества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оказание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ему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услуг имущественного характера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предоставление имущественных прав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5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5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95" name="Рисунок 3" descr="КОаП.jpg"/>
          <p:cNvPicPr/>
          <p:nvPr/>
        </p:nvPicPr>
        <p:blipFill>
          <a:blip r:embed="rId1"/>
          <a:stretch/>
        </p:blipFill>
        <p:spPr>
          <a:xfrm>
            <a:off x="7229520" y="1189080"/>
            <a:ext cx="1596960" cy="21034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684360" y="5013360"/>
            <a:ext cx="7920000" cy="1554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за совершени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 интересах данного юридического лица должностным лицом, лицом, выполняющим управленческие функции в коммерческой или иной организации, иностранным должностным лицом либо должностным лицом публичной международной организаци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ействия (бездействие), связанного с занимаемым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им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служебным полож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1187280" y="1413000"/>
            <a:ext cx="691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4392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Меры административной ответственности за незаконное вознаграждение от имени юридического лица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341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Незаконные передача, предложение или обещание от имени или в интересах юридического лица влечет наложение а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министративного штрафа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на юридических лиц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размере до трехкратной суммы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незаконно переданных денежных средств (стоимости ценных бумаг, иного имущества, оказанных либо обещанных услуг имущественного характера, иных имущественных прав),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о не менее одного миллиона рублей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конфискацией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денег, ценных бумаг, иного имущества или стоимости услуг имущественного характера, иных имущественных прав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ри совершении правонарушения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крупном размер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– размер штрафа увеличивается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о тридцатикратного размера суммы незаконно переданных денежных средств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(стоимости ценных бумаг, иного имущества, оказанных услуг имущественного характера),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о не менее двадцати миллионов рублей ;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особо крупном размер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-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о стократной суммы незаконно переданных денежных средств, но не менее ста миллионов рублей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852280"/>
            <a:ext cx="770256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92"/>
                </a:solidFill>
                <a:latin typeface="Arial"/>
              </a:rPr>
              <a:t>Недопущение должностными лицами поведения, которое может восприниматься окружающими как проявление коррупции</a:t>
            </a:r>
            <a:endParaRPr b="1" lang="en-US" sz="4000" spc="-1" strike="noStrike">
              <a:solidFill>
                <a:srgbClr val="003b92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462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«Возможно управлять страной с плохими законами, но невозможно управлять страной с недисциплинированными чиновниками»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488"/>
                </a:solidFill>
                <a:latin typeface="Tahoma"/>
              </a:rPr>
              <a:t>Канцлер Германской империи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Отто Фон Бисмарк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ведение, которое может восприниматься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 окружающими как обещание дачи взятки или предложение дачи взятки либ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 согласие принять взятку или как просьба о даче взятки, является неприемлемым для государственных служащих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, поскольку заставляет усомниться в его объективности и добросовестности, наносит ущерб репутации системы государственного управления в целом.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76360" y="43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Некоторые косвенные признаки вымогательства взятки, коммерческого подкупа: 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104" name="Содержимое 6" descr=""/>
          <p:cNvPicPr/>
          <p:nvPr/>
        </p:nvPicPr>
        <p:blipFill>
          <a:blip r:embed="rId1"/>
          <a:stretch/>
        </p:blipFill>
        <p:spPr>
          <a:xfrm>
            <a:off x="396720" y="1238400"/>
            <a:ext cx="862488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106" name="Содержимое 6" descr=""/>
          <p:cNvPicPr/>
          <p:nvPr/>
        </p:nvPicPr>
        <p:blipFill>
          <a:blip r:embed="rId1"/>
          <a:stretch/>
        </p:blipFill>
        <p:spPr>
          <a:xfrm>
            <a:off x="768240" y="2414520"/>
            <a:ext cx="7974000" cy="38275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187280" y="1268280"/>
            <a:ext cx="66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Arial"/>
              </a:rPr>
              <a:t>В ряде случаев совершение служащими определенных действий не только приводит к возникновению конфликта интересов, но и может восприниматься окружающими как согласие принять взятку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Слова, выражения и жесты, которые могут быть восприняты окружающими как просьба (намек) о даче взятки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 числу таких выражений относятся, например: "вопрос решить трудно, но можно", "спасибо на хлеб не намажешь", "договоримся", "нужны более веские аргументы", "нужно обсудить параметры", "ну что делать будем?" и т.д.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обходимость воздерживаться от употребления подобных выражений при взаимодействии с гражданами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Темы в разговоре которые могут быть восприняты окружающими как просьба (намек) о даче взятки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Обсуждение определенных тем с представителями организаций и гражданами, особенно с теми из них, чья выгода зависит от решений и действий служащих и работников, может восприниматься как просьба о даче взятки. К числу таких тем относятся, например: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изкий уровень заработной платы служащего, нехватка денежных средств на реализацию тех или иных нужд, 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желание приобрести то или иное имущество, получить ту или иную услугу, отправиться в туристическую поездку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отсутствие работы у родственников служащего, работника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обходимость поступления детей служащего, работника в образовательные учреждения и т.д.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D:\Мои документы\Мои рисунки\полуостров.bmp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ждународные документы в области противодействия коррупции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Международное сообщество, стремясь выработать эффективные меры по предупреждению и искоренению коррупции, приняло ряд документов, к которым относятся: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и Организации Объединенных Наций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я Совета Европы об уголовной ответственности за коррупцию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я по борьбе с подкупом иностранных должностных лиц при осуществлении международных коммерческих сделок Организации экономического сотрудничества и развития и др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ак согласие принять взятку или просьба о даче взятки может восприниматься совершение служащими таких действий, ка например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регулярное получение подарков, даже стоимостью менее 3 000 рублей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осещения ресторанов совместно с представителями организации, которая извлекла, извлекает или может извлечь выгоду из решений или действий (бездействия) служащего или работника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275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Для предупреждения подобных негативных последствий лицам, замещающим государственные должности Российской Федерации, государственные должности субъектов Российской Федерации должности государственной службы, следу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делять внимание манере своего общения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 с коллегами, представителями организаций, иными гражданами и, в частности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оздерживаться от поведения, которое может восприниматься окружающими как обещание или предложение дачи взятки 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либо как согласие принять взятку или как просьба о даче взятки.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0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Кодекс этики и служебного поведения гражданских служащих – звено между предписаниями законодательства и правилами поведения.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декс этики и служебного поведения это свод основных правил служебного поведения, этических норм поведения служащих и работников, процедур и форм соблюдения служащими и работниками ограничений, запретов и обязанностей, установленных законодательством о противодействии коррупции, которыми должны руководствоваться государственные гражданские служащ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Знание и соблюдение гражданскими служащими положений Кодекса является одним из критериев оценки качества их профессиональной деятельности и служебного поведени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Как обезопасить себя от провокации взятки?</a:t>
            </a: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ести прием граждан в присутствии других лиц, вежливо, без заискивания, не допуская опрометчивых высказываний, которые могли бы трактоваться гражданином как готовность принять взятку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брать с рабочего места документы и другие предметы, под которые можно незаметно положить деньг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ри попытке гражданина вручить денежные средства (подарок) открыто, громко, недвусмысленно высказать гражданину свое негативное к этому отношен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МНИТЕ: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836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 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е о фактах обращения в целях склонения к совершению коррупционных правонарушений является должностной (служебной) обязанностью государственного гражданского служащего. Невыполнение данной должностной (служебной) обязанности государственным гражданским служащим является правонарушением, влекущим увольнение с государственной гражданской службы либо привлечение к иным видам ответственности в соответствии с законодательством Российской Федераци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Государственный служащий обязан уведомлять обо всех случаях обращения к нему каких-либо лиц в целях склонения его к совершению коррупционных правонарушений :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едставителя нанимателя (работодателя),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органы прокуратуры или другие государственные органы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(статья 9 Федерального закона от 25.12.2008 г. № 273-ФЗ "О противодействии коррупции"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7848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едставителя нанимателя (работодателя)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196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рядок уведомления представителя нанимателя (работодателя) о фактах обращения в целях склонения государственного служащего к совершению коррупционных правонарушений определяется представителем нанимателя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Бланк уведомления представителя нанимателя о фактах обращения в целях склонения государственного служащего к совершению коррупционных правонарушений должен быть размещен на официальном сайте органа государственной власти в разделе «Противодействие коррупции»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едставителя нанимателя (работодателя)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Гражданский служащий обязан незамедлительно уведомить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редставителя нанимателя обо всех случаях обращения к нему каких-либо лиц в целях склонения его к совершению коррупционных правонарушений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15360" indent="-315360" algn="just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 случае нахождения гражданского служащего в командировке, в отпуске, в случае его временной нетрудоспособности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, а также в иных случаях, когда гражданский служащий не находится при исполнении своих должностных обязанностей в месте прохождения государственной гражданской службы Республики Карелия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гражданский служащий обязан уведомить представителя нанимателя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обо всех случаях обращения к нему каких-либо лиц в целях склонения его к совершению коррупционных правонарушений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 течение первого рабочего дня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момента, с которого он приступил к исполнению своих должностных обязанностей в месте прохождения государственной гражданской службы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4d7c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Форма уведомления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539640" y="1052640"/>
            <a:ext cx="8209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Уведомление представителя нанимателя осуществляется письменно. Форма уведомления утверждена   представителем нанима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уведомлении должны быть отражены све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ФИО, должность, место жительства и телефон лица, направившего уведом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описание обстоятельств, при которых гражданскому служащему  стало известно о случаях обращения каких-либо лиц в целях склонения его к совершению коррупционных правонарушений (дата, место, время, другие услов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дробные сведения о действиях, которые должен был бы совершить гражданский служащий по просьбе обратившихся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се известные сведения о физическом (юридическом) лице, склоняющем к коррупционному правонаруш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пособ и обстоятельства склонения к коррупционному правонарушению, а также информацию об отказе (согласии) принять предложение лица о совершении коррупционного право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еречень государственных органов, которые были уведомлены гражданским служащим о факте обращения к нему лица (лиц), склоняющего(их) к совершению коррупционного правонару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е о фактах обращения в целях склонения государственного служащего к совершению коррупционных правонарушений подается уполномоченному представителем нанимателя (руководителем государственного органа) гражданскому служащему или направляется по почт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я подлежат обязательной регистрации в специальном журнал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полномоченное лицо, принявшее от гражданского служащего уведомление обязано выдать гражданскому служащему, направившему уведомление, под роспись талон-уведомлен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случае предложения или вымогательства взятки необходимо сообщить об этом в правоохранительные органы до передачи взятки, чтобы передача взятки проходила под их контролем и имела своей целью задержание с поличным лица, заявившего такие требовани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стные сообщения и письменные заявления о коррупционных преступлениях принимаются в правоохранительных органах независимо от места и времени совершения преступления КРУГЛОСУТОЧНО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В Российской Федерации правовую основу противодействия коррупции составляют: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57" name="Схема 3" descr=""/>
          <p:cNvPicPr/>
          <p:nvPr/>
        </p:nvPicPr>
        <p:blipFill>
          <a:blip r:embed="rId1"/>
          <a:stretch/>
        </p:blipFill>
        <p:spPr>
          <a:xfrm>
            <a:off x="420840" y="963720"/>
            <a:ext cx="856440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Телефоны доверия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2522520"/>
          <a:ext cx="6096240" cy="3470400"/>
        </p:xfrm>
        <a:graphic>
          <a:graphicData uri="http://schemas.openxmlformats.org/drawingml/2006/table">
            <a:tbl>
              <a:tblPr/>
              <a:tblGrid>
                <a:gridCol w="4459320"/>
                <a:gridCol w="1636920"/>
              </a:tblGrid>
              <a:tr h="631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Наименован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Контактные телеф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Прокуратура Республики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717-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Министерство внутренних дел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Следственное управление Следственного комитета Российской Федерации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592-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592-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Управление Федеральной службы безопасности России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78-48-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АС ОБЯЗАНЫ ВЫСЛУШАТЬ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 дежурной части органа внутренних дел, приемной органов прокуратуры, следственном комитете, Федеральной службе безопасности и ПРИНЯТЬ сообщение в устной или письменной форме. При этом вам следует узнать фамилию, должность и рабочий телефон сотрудника, принявшего сообщение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Ы ИМЕЕТЕ ПРАВО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лучить копию своего заявления с отметкой о его регистрации в правоохранительном органе или талон-уведомление, в котором указываются сведения о сотруднике, принявшем заявление и его подпись, регистрационный номер, наименование, адрес и телефон правоохранительного органа, дата приема заявления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Ы ИМЕЕТЕ ПРАВО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ыяснить в правоохранительном органе, которому поручено заниматься Вашим заявлением, о характере принимаемых мер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СЛУЧАЕ ОТКАЗА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ринять от Вас сообщение (заявление) о коррупционном преступлении ВЫ ИМЕЕТЕ ПРАВО обжаловать эти незаконные действия в вышестоящих инстанциях, а также подать жалобу на неправомерные действия сотрудников правоохранительных органов в вышестоящие органы, в суд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blogs.velolive.com/uploads/posts/2012-05/1336675758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5238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ханизм коррупции – это: </a:t>
            </a: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а) двусторонняя сделка, при которой лицо, находящееся на государственной или иной службе, нелегально "продает" свои служебные полномочия или услуги, основанные на авторитете должности и связанных с ним возможностях, физическим и юридическим лицам, группам (в том числе организованным преступным формированиям), а "покупатель" получает возможность использовать государственную либо иную структуру в своих целях: для обогащения, законодательного оформления привилегий, ухода от предусмотренной законом ответственности, социального контроля и т. п.;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б) вымогательство служащим взятки, дополнительного вознаграждения;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) инициативный, активный подкуп служащих, нередко с одновременным сильным психическим воздействием на них. Последнее характерно для организованной преступности.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3" descr=""/>
          <p:cNvPicPr/>
          <p:nvPr/>
        </p:nvPicPr>
        <p:blipFill>
          <a:blip r:embed="rId1"/>
          <a:stretch/>
        </p:blipFill>
        <p:spPr>
          <a:xfrm>
            <a:off x="822240" y="1122480"/>
            <a:ext cx="7804080" cy="4851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1692360" y="333360"/>
            <a:ext cx="59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Формы коррупционных про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Согласно исследованиям Центра региональной социологии Института социологии РАН «Это точно случай коррупции», %*</a:t>
            </a:r>
            <a:br>
              <a:rPr sz="1600"/>
            </a:br>
            <a:endParaRPr b="1" lang="en-US" sz="16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от имени государственного органа сдает в аренду государственное имущество, получая за это дополнительное вознаграждение 78,2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за определенную услугу обеспечивает продвижение в очереди на муниципальное жилье 74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Врач за вознаграждение выдает больничный лист 58,5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Репетитор при подготовке в вуз гарантирует поступление за особое вознаграждение 55,1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организует конкурс на получение госзаказа, сообщая своей фирме сведения о ее конкурентах 52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Бизнесмен, переходя на государственную службу, передает управление фирмой близкому родственнику (родственнице), а затем оказывает покровительство в ведении бизнеса 45,8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Врач, принимая беременную женщину по государственному родовому сертификату, направляет ее на платные анализы к знакомому «частнику» 38,3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Студент вручает экзаменатору бутылку коньяка или коробку конфет для получения хорошей оценки 31,8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устраивает на работу в свое ведомство родственника 30,2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устраивает жену на работу в фирму, деятельность которой он контролирует в рамках своих обязанностей 29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Фирма предоставляет в постоянное распоряжение чиновника автомобиль 28,5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принимает приглашение бизнесмена поужинать в ресторане после решения им проблемы предпринимателя 26,4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 algn="ctr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Меры уголовного и административного преследования, установленные законодательством Российской Федерации – это реализация обязательства Российской Федерации, установленных  международными конвенциями и соглашениями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Уголовная ответственность за преступления коррупционного характера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63025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2011 году в Уголовный кодекс Российской Федерации и Кодекс Российской Федерации об административных правонарушениях внесены изменения, направленные на решение концептуальных проблем в области борьбы с коррупцией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целях уголовно-правового обеспечения противодействия коррупции и в интересах выполнения международных обязательств Уголовный кодекс Российской Федерации устанавливает ответственность за совершение коррупционных преступлений: </a:t>
            </a: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коммерческого подкупа, дачу взятки, получение взятки и посредничество во взяточничестве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68" name="Рисунок 3" descr="УК РФ.jpg"/>
          <p:cNvPicPr/>
          <p:nvPr/>
        </p:nvPicPr>
        <p:blipFill>
          <a:blip r:embed="rId1"/>
          <a:stretch/>
        </p:blipFill>
        <p:spPr>
          <a:xfrm>
            <a:off x="6827760" y="1484280"/>
            <a:ext cx="1803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33:33Z</dcterms:created>
  <dc:creator>User</dc:creator>
  <dc:description/>
  <dc:language>en-US</dc:language>
  <cp:lastModifiedBy>Борисова</cp:lastModifiedBy>
  <dcterms:modified xsi:type="dcterms:W3CDTF">2013-12-05T13:45:40Z</dcterms:modified>
  <cp:revision>187</cp:revision>
  <dc:subject/>
  <dc:title>Слайд 1</dc:title>
</cp:coreProperties>
</file>